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9DC-B476-433D-A8AA-7B2C93E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4D6-EDF4-4EEF-9701-1D28627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D24-D860-43B3-82C1-9B639DF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AF4-FD42-4ED2-95C1-2672DF10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55C-922B-4E80-9B85-460E75D3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56D-0C70-4040-A81E-486F691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334-ED86-4930-8FEA-D3DE70E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A46C-DD9D-455F-AD49-5CBFDFF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D429-9E0D-4115-9962-B45D52F4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3C2F-3BC3-4B07-9FB8-774B0237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7EC-4C3C-4C32-AEF9-1C73A1C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F40-55EF-4F8A-938D-40FEE406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BE24-1DA9-4F2C-8240-27A6E982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202-28FF-4002-8167-CDAD7B8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228-A7B0-41AC-B5C2-F91C561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8F6-7568-4ADA-B76A-42B00503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26E-C4E7-4F27-9C3D-B93BCB38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0D8-04B4-4B7D-A157-68F2C724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335-ACD6-4590-A992-1E40FA60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080-3145-4032-B3B7-E3B0A270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B7-FF0E-4791-A3E9-D48C04D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06D-21FE-4BB7-9F88-384151B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342-5768-41C0-B5C2-A5BC245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1C1-A44B-4C4A-A539-63AE32B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F07-0038-4256-83EA-AC882B69B3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8E29-A049-4790-9893-72E8DC3D7C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3870/" TargetMode="External"/><Relationship Id="rId2" Type="http://schemas.openxmlformats.org/officeDocument/2006/relationships/hyperlink" Target="http://shkolazhizni.ru/archive/0/n-3870/" TargetMode="External"/><Relationship Id="rId3" Type="http://schemas.openxmlformats.org/officeDocument/2006/relationships/hyperlink" Target="http://shkolazhizni.ru/archive/0/n-3870/" TargetMode="External"/><Relationship Id="rId4" Type="http://schemas.openxmlformats.org/officeDocument/2006/relationships/hyperlink" Target="http://shkolazhizni.ru/archive/0/n-3870/" TargetMode="External"/><Relationship Id="rId5" Type="http://schemas.openxmlformats.org/officeDocument/2006/relationships/hyperlink" Target="http://shkolazhizni.ru/archive/0/n-3870/" TargetMode="External"/><Relationship Id="rId6" Type="http://schemas.openxmlformats.org/officeDocument/2006/relationships/hyperlink" Target="http://shkolazhizni.ru/archive/0/n-3870/" TargetMode="External"/><Relationship Id="rId7" Type="http://schemas.openxmlformats.org/officeDocument/2006/relationships/hyperlink" Target="http://www.liebe-de.okis.ru/mentalitet.html" TargetMode="External"/><Relationship Id="rId8" Type="http://schemas.openxmlformats.org/officeDocument/2006/relationships/hyperlink" Target="http://www.langust.ru/review/xenoger2.shtml" TargetMode="External"/><Relationship Id="rId9" Type="http://schemas.openxmlformats.org/officeDocument/2006/relationships/hyperlink" Target="http://www.langust.ru/review/xenoger2.shtml" TargetMode="External"/><Relationship Id="rId10" Type="http://schemas.openxmlformats.org/officeDocument/2006/relationships/hyperlink" Target="http://www.langust.ru/review/xenoger2.shtml" TargetMode="External"/><Relationship Id="rId11" Type="http://schemas.openxmlformats.org/officeDocument/2006/relationships/hyperlink" Target="http://www.langust.ru/review/xenoger2.shtml" TargetMode="External"/><Relationship Id="rId12" Type="http://schemas.openxmlformats.org/officeDocument/2006/relationships/hyperlink" Target="http://www.langust.ru/review/xenoger2.shtml" TargetMode="External"/><Relationship Id="rId13" Type="http://schemas.openxmlformats.org/officeDocument/2006/relationships/hyperlink" Target="http://www.langust.ru/review/xenoger2.s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00"/>
                </a:solidFill>
                <a:latin typeface="Arial"/>
              </a:rPr>
              <a:t>Немецкий менталитет сегодн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71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лова Виктория, 10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Что такое менталитет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нталит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фр. 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Mentalit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— образ мышления, мировосприятия, духовной настроенности, присущие индивиду или груп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талитет определяет умонастроение и жизненную пози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норма представления мира вокруг себя и себя в нём. Черты менталитета, к примеру, — интуитивизм, рационализм, цветовая гамма, семейные образы, лиризм и т. 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нталитет формируется в результате воздействия следующих факторов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тература, прочитанная в детстве и ю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ологические факторы (уровень физического и психического здоровья, детские болезни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нталитет родител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действие со стороны отдельных "сильных личностей"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ле- и кинофильмы, просмотренные в детстве и ю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едства массовой информац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кол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ые формы искусства (кроме литературы и ки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нталитету жителя Германии присущ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люб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ерватиз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с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кура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нктуа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верхчистоплотн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464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личия двух менталите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им присущи широта души, духовная свобода, бесхозяйственность, мечтательность, безудержность, противоречив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редставителей немецкой нации в отличие от русской характерны серьёзность, пунктуальность. Это нация, которая всё время сомне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уществует ли что-то общее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телям России и Германии присуща мечтательность. Когда окружающая действительность становится невыносимой, немцы спасаются бегством в мир фантаз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716280"/>
            <a:ext cx="471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исследо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так, немецкий менталитет – это особенный образ мышления, складывающийся под давлением условий жизни, воспитания, СМИ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ественно немецкий и русский менталитеты в основном имеют больше противоположных черт. Однако между ними имеется и нечто общ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shkolazhizni.ru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archive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0/n-387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http://www.liebe-de.okis.ru/mentalitet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:/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www.langust.ru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review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/xenoger2.s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0:49:41Z</dcterms:created>
  <dc:creator>Au226</dc:creator>
  <dc:description/>
  <dc:language>en-US</dc:language>
  <cp:lastModifiedBy>Au226</cp:lastModifiedBy>
  <dcterms:modified xsi:type="dcterms:W3CDTF">2009-10-23T10:36:03Z</dcterms:modified>
  <cp:revision>3</cp:revision>
  <dc:subject/>
  <dc:title>Немецкий менталитет сегодня</dc:title>
</cp:coreProperties>
</file>